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5AA-6A3E-45E2-857B-AAA11CA0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0830-EF2F-4440-9622-43BFB139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5F5-E009-49C6-8A56-D305A6BC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0D9-DDA7-45C5-9E70-140F7BE0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AD6-4A6A-4FC4-9D5E-8D1E6E39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CC1-04B2-45CF-8B17-A14F63E4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CE9-0333-4C0D-AEB5-F2749C69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B7E-75D6-455F-933B-684FB80A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504-C192-4E08-AE7F-FC630B0E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583-F977-4F7E-A630-182E4C85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15C-CF78-4B03-928C-F1AAB1CC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902E-7D6B-4FF8-B712-AA5CBA93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C60B-667E-484E-B391-A6F4B5E51D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553C-58F9-4841-8945-C0F97C3480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Diagram 9" descr=""/>
          <p:cNvPicPr/>
          <p:nvPr/>
        </p:nvPicPr>
        <p:blipFill>
          <a:blip r:embed="rId2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6" name="Prostokąt zaokrąglony 11"/>
            <p:cNvSpPr/>
            <p:nvPr/>
          </p:nvSpPr>
          <p:spPr>
            <a:xfrm>
              <a:off x="671040" y="1989000"/>
              <a:ext cx="882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11280" y="1999080"/>
              <a:ext cx="10080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2" name=""/>
          <p:cNvGraphicFramePr/>
          <p:nvPr/>
        </p:nvGraphicFramePr>
        <p:xfrm>
          <a:off x="611280" y="981000"/>
          <a:ext cx="7273800" cy="576360"/>
        </p:xfrm>
        <a:graphic>
          <a:graphicData uri="http://schemas.openxmlformats.org/drawingml/2006/table">
            <a:tbl>
              <a:tblPr/>
              <a:tblGrid>
                <a:gridCol w="2736720"/>
                <a:gridCol w="453708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611280" y="1557360"/>
          <a:ext cx="7273800" cy="2448000"/>
        </p:xfrm>
        <a:graphic>
          <a:graphicData uri="http://schemas.openxmlformats.org/drawingml/2006/table">
            <a:tbl>
              <a:tblPr/>
              <a:tblGrid>
                <a:gridCol w="2736720"/>
                <a:gridCol w="4537080"/>
              </a:tblGrid>
              <a:tr h="244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ozytywne aspekty globalizacji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Rozpowszechnianie wielu aspektów technologicznych, które mają na celu ułatwienie życia w każdym kraju, postęp naukowo-techniczny, handel międzynarodowy, łatwość komunikowani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11280" y="4005360"/>
          <a:ext cx="7273800" cy="1368360"/>
        </p:xfrm>
        <a:graphic>
          <a:graphicData uri="http://schemas.openxmlformats.org/drawingml/2006/table">
            <a:tbl>
              <a:tblPr/>
              <a:tblGrid>
                <a:gridCol w="2736720"/>
                <a:gridCol w="4537080"/>
              </a:tblGrid>
              <a:tr h="13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Negatywne aspekty globalizacji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Zagrożenie niezależności państwa, utrata  tożsamości narodowo-kulturowej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5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la Banku Światowe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upa 9"/>
          <p:cNvGrpSpPr/>
          <p:nvPr/>
        </p:nvGrpSpPr>
        <p:grpSpPr>
          <a:xfrm>
            <a:off x="250920" y="1628640"/>
            <a:ext cx="8101080" cy="4362840"/>
            <a:chOff x="250920" y="1628640"/>
            <a:chExt cx="8101080" cy="4362840"/>
          </a:xfrm>
        </p:grpSpPr>
        <p:sp>
          <p:nvSpPr>
            <p:cNvPr id="152" name="pole tekstowe 6"/>
            <p:cNvSpPr/>
            <p:nvPr/>
          </p:nvSpPr>
          <p:spPr>
            <a:xfrm>
              <a:off x="250920" y="1628640"/>
              <a:ext cx="576108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la Banku Światoweg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 C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sparcie finansowe (kredyty) w celu zmniejszenia ubóstw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 C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 C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Finansowanie inwestycji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udowa dró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lektrowni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zkół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starczanie pomocy merytorycznej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doradztwa fachowego przez organizowanie różnego rodzaju szkoleń nauczycieli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ogramy wyżywienia oraz poprawy sytuacji dzieci i kobiet w krajach Trzeciego Świa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"/>
            <p:cNvPicPr/>
            <p:nvPr/>
          </p:nvPicPr>
          <p:blipFill>
            <a:blip r:embed="rId2"/>
            <a:stretch/>
          </p:blipFill>
          <p:spPr>
            <a:xfrm>
              <a:off x="6155640" y="1988640"/>
              <a:ext cx="216000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" descr=""/>
            <p:cNvPicPr/>
            <p:nvPr/>
          </p:nvPicPr>
          <p:blipFill>
            <a:blip r:embed="rId3"/>
            <a:stretch/>
          </p:blipFill>
          <p:spPr>
            <a:xfrm>
              <a:off x="6155640" y="3644640"/>
              <a:ext cx="2196360" cy="139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ole tekstowe 7"/>
          <p:cNvSpPr/>
          <p:nvPr/>
        </p:nvSpPr>
        <p:spPr>
          <a:xfrm>
            <a:off x="347040" y="54936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la Międzynarodowego Funduszu Walutowego (MF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zaokrąglony 14"/>
          <p:cNvSpPr/>
          <p:nvPr/>
        </p:nvSpPr>
        <p:spPr>
          <a:xfrm>
            <a:off x="395280" y="1341360"/>
            <a:ext cx="7777080" cy="2054160"/>
          </a:xfrm>
          <a:prstGeom prst="roundRect">
            <a:avLst>
              <a:gd name="adj" fmla="val 10000"/>
            </a:avLst>
          </a:prstGeom>
          <a:solidFill>
            <a:srgbClr val="d0d8e8">
              <a:alpha val="90000"/>
            </a:srgbClr>
          </a:solidFill>
          <a:ln w="25560">
            <a:solidFill>
              <a:srgbClr val="d0d8e8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upa 23"/>
          <p:cNvGrpSpPr/>
          <p:nvPr/>
        </p:nvGrpSpPr>
        <p:grpSpPr>
          <a:xfrm>
            <a:off x="630360" y="1614600"/>
            <a:ext cx="1699920" cy="4294080"/>
            <a:chOff x="630360" y="1614600"/>
            <a:chExt cx="1699920" cy="4294080"/>
          </a:xfrm>
        </p:grpSpPr>
        <p:sp>
          <p:nvSpPr>
            <p:cNvPr id="163" name="Prostokąt zaokrąglony 15"/>
            <p:cNvSpPr/>
            <p:nvPr/>
          </p:nvSpPr>
          <p:spPr>
            <a:xfrm>
              <a:off x="630360" y="1614600"/>
              <a:ext cx="1699920" cy="150804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Dowolny kształt 16"/>
            <p:cNvSpPr/>
            <p:nvPr/>
          </p:nvSpPr>
          <p:spPr>
            <a:xfrm>
              <a:off x="630360" y="3395880"/>
              <a:ext cx="1699920" cy="2512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360" rIns="180360" tIns="128160" bIns="18036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sparcie finansowe prowadzonej działalności na rynkach światowy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upa 24"/>
          <p:cNvGrpSpPr/>
          <p:nvPr/>
        </p:nvGrpSpPr>
        <p:grpSpPr>
          <a:xfrm>
            <a:off x="2500200" y="1614600"/>
            <a:ext cx="1698840" cy="4294080"/>
            <a:chOff x="2500200" y="1614600"/>
            <a:chExt cx="1698840" cy="4294080"/>
          </a:xfrm>
        </p:grpSpPr>
        <p:sp>
          <p:nvSpPr>
            <p:cNvPr id="166" name="Prostokąt zaokrąglony 17"/>
            <p:cNvSpPr/>
            <p:nvPr/>
          </p:nvSpPr>
          <p:spPr>
            <a:xfrm>
              <a:off x="2500200" y="1614600"/>
              <a:ext cx="1698840" cy="150804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Dowolny kształt 18"/>
            <p:cNvSpPr/>
            <p:nvPr/>
          </p:nvSpPr>
          <p:spPr>
            <a:xfrm>
              <a:off x="2516040" y="3395880"/>
              <a:ext cx="1667160" cy="2512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9280" rIns="179280" tIns="128160" bIns="17928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Ułatwienie międzynaro-dowej współpracy finansow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upa 25"/>
          <p:cNvGrpSpPr/>
          <p:nvPr/>
        </p:nvGrpSpPr>
        <p:grpSpPr>
          <a:xfrm>
            <a:off x="4368960" y="1614600"/>
            <a:ext cx="1698480" cy="4294080"/>
            <a:chOff x="4368960" y="1614600"/>
            <a:chExt cx="1698480" cy="4294080"/>
          </a:xfrm>
        </p:grpSpPr>
        <p:sp>
          <p:nvSpPr>
            <p:cNvPr id="169" name="Prostokąt zaokrąglony 19"/>
            <p:cNvSpPr/>
            <p:nvPr/>
          </p:nvSpPr>
          <p:spPr>
            <a:xfrm>
              <a:off x="4368960" y="1614600"/>
              <a:ext cx="1698480" cy="150804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Dowolny kształt 20"/>
            <p:cNvSpPr/>
            <p:nvPr/>
          </p:nvSpPr>
          <p:spPr>
            <a:xfrm>
              <a:off x="4368960" y="3395880"/>
              <a:ext cx="1698480" cy="2512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360" rIns="180360" tIns="128160" bIns="18036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nitoring stabilności kursów walutowy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upa 26"/>
          <p:cNvGrpSpPr/>
          <p:nvPr/>
        </p:nvGrpSpPr>
        <p:grpSpPr>
          <a:xfrm>
            <a:off x="6237360" y="1614600"/>
            <a:ext cx="1700280" cy="4294080"/>
            <a:chOff x="6237360" y="1614600"/>
            <a:chExt cx="1700280" cy="4294080"/>
          </a:xfrm>
        </p:grpSpPr>
        <p:sp>
          <p:nvSpPr>
            <p:cNvPr id="172" name="Prostokąt zaokrąglony 21"/>
            <p:cNvSpPr/>
            <p:nvPr/>
          </p:nvSpPr>
          <p:spPr>
            <a:xfrm>
              <a:off x="6237360" y="1614600"/>
              <a:ext cx="1700280" cy="1508040"/>
            </a:xfrm>
            <a:prstGeom prst="roundRect">
              <a:avLst>
                <a:gd name="adj" fmla="val 10000"/>
              </a:avLst>
            </a:prstGeom>
            <a:blipFill rotWithShape="0">
              <a:blip r:embed="rId5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Dowolny kształt 22"/>
            <p:cNvSpPr/>
            <p:nvPr/>
          </p:nvSpPr>
          <p:spPr>
            <a:xfrm>
              <a:off x="6237360" y="3395880"/>
              <a:ext cx="1700280" cy="2512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360" rIns="180360" tIns="128160" bIns="18036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sienie pomocy 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sytuacji zachwiania równowagi finansowej państwa członko-wskie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ole tekstowe 2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C:\Users\Marta\Desktop\sowa\sowa_3.png"/>
          <p:cNvPicPr/>
          <p:nvPr/>
        </p:nvPicPr>
        <p:blipFill>
          <a:blip r:embed="rId6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08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95280" y="1628640"/>
          <a:ext cx="7561440" cy="540000"/>
        </p:xfrm>
        <a:graphic>
          <a:graphicData uri="http://schemas.openxmlformats.org/drawingml/2006/table">
            <a:tbl>
              <a:tblPr/>
              <a:tblGrid>
                <a:gridCol w="2448000"/>
                <a:gridCol w="5113440"/>
              </a:tblGrid>
              <a:tr h="54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95280" y="2133720"/>
          <a:ext cx="7561440" cy="1366560"/>
        </p:xfrm>
        <a:graphic>
          <a:graphicData uri="http://schemas.openxmlformats.org/drawingml/2006/table">
            <a:tbl>
              <a:tblPr/>
              <a:tblGrid>
                <a:gridCol w="2448000"/>
                <a:gridCol w="5113440"/>
              </a:tblGrid>
              <a:tr h="136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ank Świat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ank udziela kredytów państwom w celu zmniejszenia ubóstwa oraz finansowania inwestycji przyczyniających się do wzrostu gospodarczego tych krajó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95280" y="3500280"/>
          <a:ext cx="7561440" cy="2160720"/>
        </p:xfrm>
        <a:graphic>
          <a:graphicData uri="http://schemas.openxmlformats.org/drawingml/2006/table">
            <a:tbl>
              <a:tblPr/>
              <a:tblGrid>
                <a:gridCol w="2448000"/>
                <a:gridCol w="5113440"/>
              </a:tblGrid>
              <a:tr h="216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Międzynarodowy Fundusz Walutow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Międzynarodowy Fundusz Walutowy funkcjonuje w ramach ONZ i  zapewnia państwom członkowskim (jest ich ponad 180) wystarczające ilości waluty do dalszego prowadzenia działalności  gospodarczej z resztą świata. W zamian kraje te są zobowiązane do dokonywania reform ekonomicznych i innych działań stabilizującyc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84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ole tekstowe 7"/>
          <p:cNvSpPr/>
          <p:nvPr/>
        </p:nvSpPr>
        <p:spPr>
          <a:xfrm>
            <a:off x="282240" y="765000"/>
            <a:ext cx="4580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chy współczesnej globalizacj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ole tekstowe 8"/>
          <p:cNvSpPr/>
          <p:nvPr/>
        </p:nvSpPr>
        <p:spPr>
          <a:xfrm>
            <a:off x="250920" y="1700280"/>
            <a:ext cx="7850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snąca mobilność kapitału i dób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ój obrotów kapitałowych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ój innowacyjnośc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ój Internet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ój sieci światowego systemu transportoweg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iberalizacja wielu sfer działalnośc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ywatyzacj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regulacja sektorów gospodarki, które stanowiły własność państwową i były zmonopolizow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0"/>
          <a:stretch/>
        </p:blipFill>
        <p:spPr>
          <a:xfrm>
            <a:off x="5724360" y="692280"/>
            <a:ext cx="2451240" cy="2376360"/>
          </a:xfrm>
          <a:prstGeom prst="rect">
            <a:avLst/>
          </a:prstGeom>
          <a:ln w="0">
            <a:noFill/>
          </a:ln>
        </p:spPr>
      </p:pic>
      <p:sp>
        <p:nvSpPr>
          <p:cNvPr id="192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C:\Users\Marta\Desktop\sowa\sowa_3.png"/>
          <p:cNvPicPr/>
          <p:nvPr/>
        </p:nvPicPr>
        <p:blipFill>
          <a:blip r:embed="rId11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róbuj odpowiedzieć na pytani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rostokąt 6"/>
          <p:cNvSpPr/>
          <p:nvPr/>
        </p:nvSpPr>
        <p:spPr>
          <a:xfrm>
            <a:off x="1258920" y="4437000"/>
            <a:ext cx="401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mień cechy globalizacj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669600" cy="100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3"/>
          <a:stretch/>
        </p:blipFill>
        <p:spPr>
          <a:xfrm>
            <a:off x="684360" y="2997360"/>
            <a:ext cx="669600" cy="100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898560" cy="96696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12"/>
          <p:cNvSpPr/>
          <p:nvPr/>
        </p:nvSpPr>
        <p:spPr>
          <a:xfrm>
            <a:off x="1708560" y="2060640"/>
            <a:ext cx="300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m jest globalizacj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ole tekstowe 14"/>
          <p:cNvSpPr/>
          <p:nvPr/>
        </p:nvSpPr>
        <p:spPr>
          <a:xfrm>
            <a:off x="1722240" y="3284640"/>
            <a:ext cx="619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kutki wywiera na współczesną gospodark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ole tekstowe 14"/>
          <p:cNvSpPr/>
          <p:nvPr/>
        </p:nvSpPr>
        <p:spPr>
          <a:xfrm>
            <a:off x="507960" y="476280"/>
            <a:ext cx="615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cesy globalizacji ujmuje się w wymiarz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a 23"/>
          <p:cNvGrpSpPr/>
          <p:nvPr/>
        </p:nvGrpSpPr>
        <p:grpSpPr>
          <a:xfrm>
            <a:off x="539640" y="1341360"/>
            <a:ext cx="4969080" cy="1393920"/>
            <a:chOff x="539640" y="1341360"/>
            <a:chExt cx="4969080" cy="1393920"/>
          </a:xfrm>
        </p:grpSpPr>
        <p:sp>
          <p:nvSpPr>
            <p:cNvPr id="53" name="Dowolny kształt 17"/>
            <p:cNvSpPr/>
            <p:nvPr/>
          </p:nvSpPr>
          <p:spPr>
            <a:xfrm>
              <a:off x="539640" y="1341360"/>
              <a:ext cx="4969080" cy="13939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5120" rIns="95400" tIns="95400" bIns="9540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ospodarczy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Prostokąt zaokrąglony 18"/>
            <p:cNvSpPr/>
            <p:nvPr/>
          </p:nvSpPr>
          <p:spPr>
            <a:xfrm>
              <a:off x="679320" y="1481040"/>
              <a:ext cx="1444680" cy="111456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upa 24"/>
          <p:cNvGrpSpPr/>
          <p:nvPr/>
        </p:nvGrpSpPr>
        <p:grpSpPr>
          <a:xfrm>
            <a:off x="539640" y="2874960"/>
            <a:ext cx="4969080" cy="1395360"/>
            <a:chOff x="539640" y="2874960"/>
            <a:chExt cx="4969080" cy="1395360"/>
          </a:xfrm>
        </p:grpSpPr>
        <p:sp>
          <p:nvSpPr>
            <p:cNvPr id="56" name="Dowolny kształt 19"/>
            <p:cNvSpPr/>
            <p:nvPr/>
          </p:nvSpPr>
          <p:spPr>
            <a:xfrm>
              <a:off x="539640" y="2874960"/>
              <a:ext cx="4969080" cy="1395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5120" rIns="95400" tIns="95400" bIns="9540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połeczno-kulturowy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Prostokąt zaokrąglony 20"/>
            <p:cNvSpPr/>
            <p:nvPr/>
          </p:nvSpPr>
          <p:spPr>
            <a:xfrm>
              <a:off x="679320" y="3014640"/>
              <a:ext cx="1444680" cy="111600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upa 25"/>
          <p:cNvGrpSpPr/>
          <p:nvPr/>
        </p:nvGrpSpPr>
        <p:grpSpPr>
          <a:xfrm>
            <a:off x="539640" y="4410000"/>
            <a:ext cx="4969080" cy="1395360"/>
            <a:chOff x="539640" y="4410000"/>
            <a:chExt cx="4969080" cy="1395360"/>
          </a:xfrm>
        </p:grpSpPr>
        <p:sp>
          <p:nvSpPr>
            <p:cNvPr id="59" name="Dowolny kształt 21"/>
            <p:cNvSpPr/>
            <p:nvPr/>
          </p:nvSpPr>
          <p:spPr>
            <a:xfrm>
              <a:off x="539640" y="4410000"/>
              <a:ext cx="4969080" cy="1395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5120" rIns="95400" tIns="95400" bIns="9540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lityczny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rostokąt zaokrąglony 22"/>
            <p:cNvSpPr/>
            <p:nvPr/>
          </p:nvSpPr>
          <p:spPr>
            <a:xfrm>
              <a:off x="679320" y="4549680"/>
              <a:ext cx="1444680" cy="111600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2" descr=""/>
          <p:cNvPicPr/>
          <p:nvPr/>
        </p:nvPicPr>
        <p:blipFill>
          <a:blip r:embed="rId5"/>
          <a:stretch/>
        </p:blipFill>
        <p:spPr>
          <a:xfrm>
            <a:off x="5808600" y="1844640"/>
            <a:ext cx="2346480" cy="3240000"/>
          </a:xfrm>
          <a:prstGeom prst="rect">
            <a:avLst/>
          </a:prstGeom>
          <a:ln w="0">
            <a:noFill/>
          </a:ln>
        </p:spPr>
      </p:pic>
      <p:sp>
        <p:nvSpPr>
          <p:cNvPr id="62" name="pole tekstowe 16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Users\Marta\Desktop\sowa\sowa_3.png"/>
          <p:cNvPicPr/>
          <p:nvPr/>
        </p:nvPicPr>
        <p:blipFill>
          <a:blip r:embed="rId6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lobalizacja w wymiarze gospodarczy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rostokąt zaokrąglony 14"/>
          <p:cNvSpPr/>
          <p:nvPr/>
        </p:nvSpPr>
        <p:spPr>
          <a:xfrm>
            <a:off x="611280" y="1773360"/>
            <a:ext cx="7200720" cy="23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9"/>
          <p:cNvSpPr/>
          <p:nvPr/>
        </p:nvSpPr>
        <p:spPr>
          <a:xfrm>
            <a:off x="755640" y="2133720"/>
            <a:ext cx="69120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lega na ujednoliceniu rynkó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lokalnych, regionalnych, krajowych, międzynarodowych) i obracaniu na nich różnymi towaram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340000" y="4005360"/>
            <a:ext cx="3672000" cy="25272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20908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lobalizacja w wymiarze społeczno-kulturowy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upa 8"/>
          <p:cNvGrpSpPr/>
          <p:nvPr/>
        </p:nvGrpSpPr>
        <p:grpSpPr>
          <a:xfrm>
            <a:off x="468360" y="1773360"/>
            <a:ext cx="7469280" cy="3211560"/>
            <a:chOff x="468360" y="1773360"/>
            <a:chExt cx="7469280" cy="3211560"/>
          </a:xfrm>
        </p:grpSpPr>
        <p:sp>
          <p:nvSpPr>
            <p:cNvPr id="78" name="pole tekstowe 6"/>
            <p:cNvSpPr/>
            <p:nvPr/>
          </p:nvSpPr>
          <p:spPr>
            <a:xfrm>
              <a:off x="468360" y="1773360"/>
              <a:ext cx="5472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st odzwierciedlona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przez rozwój turystki,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zmożone migracj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komercjalizację produktów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2" descr=""/>
            <p:cNvPicPr/>
            <p:nvPr/>
          </p:nvPicPr>
          <p:blipFill>
            <a:blip r:embed="rId2"/>
            <a:stretch/>
          </p:blipFill>
          <p:spPr>
            <a:xfrm>
              <a:off x="5148360" y="3213720"/>
              <a:ext cx="2789280" cy="177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lobalizacja w wymiarze polityczny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ole tekstowe 6"/>
          <p:cNvSpPr/>
          <p:nvPr/>
        </p:nvSpPr>
        <p:spPr>
          <a:xfrm>
            <a:off x="468360" y="1413000"/>
            <a:ext cx="7377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zwierciedlona jest w powstawaniu organizacji międzynarodowych, np. takich ja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d0d0d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d0d0d"/>
                </a:solidFill>
                <a:latin typeface="Times New Roman CE"/>
                <a:ea typeface="Times New Roman CE"/>
              </a:rPr>
              <a:t>Bank Światow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d0d0d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d0d0d"/>
                </a:solidFill>
                <a:latin typeface="Times New Roman CE"/>
                <a:ea typeface="Times New Roman CE"/>
              </a:rPr>
              <a:t>Międzynarodowy Fundusz Walutow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a Europejs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227664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lobalizac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upa 9"/>
          <p:cNvGrpSpPr/>
          <p:nvPr/>
        </p:nvGrpSpPr>
        <p:grpSpPr>
          <a:xfrm>
            <a:off x="324000" y="1197000"/>
            <a:ext cx="7561080" cy="4176720"/>
            <a:chOff x="324000" y="1197000"/>
            <a:chExt cx="7561080" cy="4176720"/>
          </a:xfrm>
        </p:grpSpPr>
        <p:pic>
          <p:nvPicPr>
            <p:cNvPr id="95" name="Picture 2" descr=""/>
            <p:cNvPicPr/>
            <p:nvPr/>
          </p:nvPicPr>
          <p:blipFill>
            <a:blip r:embed="rId2"/>
            <a:stretch/>
          </p:blipFill>
          <p:spPr>
            <a:xfrm>
              <a:off x="324000" y="1197000"/>
              <a:ext cx="270504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Prostokąt zaokrąglony 7"/>
            <p:cNvSpPr/>
            <p:nvPr/>
          </p:nvSpPr>
          <p:spPr>
            <a:xfrm>
              <a:off x="2771640" y="2709720"/>
              <a:ext cx="5113440" cy="266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ole tekstowe 6"/>
            <p:cNvSpPr/>
            <p:nvPr/>
          </p:nvSpPr>
          <p:spPr>
            <a:xfrm>
              <a:off x="2988360" y="2853360"/>
              <a:ext cx="482472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est zjawiskiem obejmującym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przenikającym wszystkie dziedziny życia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– polityczną, ekonomiczną, społeczną, kulturalną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apewnia swobodny przepływ towarów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usług poprzez liberalizację, tj. ułatwianie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handlu międzynarodowy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czyny powstania globalizacj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upa 8"/>
          <p:cNvGrpSpPr/>
          <p:nvPr/>
        </p:nvGrpSpPr>
        <p:grpSpPr>
          <a:xfrm>
            <a:off x="539640" y="1700280"/>
            <a:ext cx="7382160" cy="4255920"/>
            <a:chOff x="539640" y="1700280"/>
            <a:chExt cx="7382160" cy="4255920"/>
          </a:xfrm>
        </p:grpSpPr>
        <p:sp>
          <p:nvSpPr>
            <p:cNvPr id="105" name="pole tekstowe 6"/>
            <p:cNvSpPr/>
            <p:nvPr/>
          </p:nvSpPr>
          <p:spPr>
            <a:xfrm>
              <a:off x="539640" y="1700280"/>
              <a:ext cx="7382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śród jednych z ważniejszych przyczyn globalizacji jest m.in. zmiana systemów gospodarczych polegająca na zmianie gospodarki danego kraju z gospodarki centralnie planowanej na wolną gospodarkę oraz powstanie instytucji międzynarodowy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2" descr=""/>
            <p:cNvPicPr/>
            <p:nvPr/>
          </p:nvPicPr>
          <p:blipFill>
            <a:blip r:embed="rId2"/>
            <a:stretch/>
          </p:blipFill>
          <p:spPr>
            <a:xfrm>
              <a:off x="2412000" y="3212640"/>
              <a:ext cx="4058280" cy="274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08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upa 23"/>
          <p:cNvGrpSpPr/>
          <p:nvPr/>
        </p:nvGrpSpPr>
        <p:grpSpPr>
          <a:xfrm>
            <a:off x="406440" y="1344600"/>
            <a:ext cx="2713680" cy="4241880"/>
            <a:chOff x="406440" y="1344600"/>
            <a:chExt cx="2713680" cy="4241880"/>
          </a:xfrm>
        </p:grpSpPr>
        <p:sp>
          <p:nvSpPr>
            <p:cNvPr id="115" name="Dowolny kształt 15"/>
            <p:cNvSpPr/>
            <p:nvPr/>
          </p:nvSpPr>
          <p:spPr>
            <a:xfrm>
              <a:off x="406440" y="1344600"/>
              <a:ext cx="1861920" cy="292428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104724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Proces globalizacji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wymiarze gospodarczy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Dowolny kształt 16"/>
            <p:cNvSpPr/>
            <p:nvPr/>
          </p:nvSpPr>
          <p:spPr>
            <a:xfrm>
              <a:off x="684000" y="3429000"/>
              <a:ext cx="2144520" cy="21574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8000" rIns="198000" tIns="198000" bIns="19800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ujednolicenie rynków i obrót towaram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Dowolny kształt 17"/>
            <p:cNvSpPr/>
            <p:nvPr/>
          </p:nvSpPr>
          <p:spPr>
            <a:xfrm rot="21478800">
              <a:off x="2447640" y="2050560"/>
              <a:ext cx="664920" cy="430200"/>
            </a:xfrm>
            <a:custGeom>
              <a:avLst/>
              <a:gdLst/>
              <a:ahLst/>
              <a:rect l="l" t="t" r="r" b="b"/>
              <a:pathLst>
                <a:path w="665459" h="429761">
                  <a:moveTo>
                    <a:pt x="0" y="85952"/>
                  </a:moveTo>
                  <a:lnTo>
                    <a:pt x="450579" y="85952"/>
                  </a:lnTo>
                  <a:lnTo>
                    <a:pt x="450579" y="0"/>
                  </a:lnTo>
                  <a:lnTo>
                    <a:pt x="665459" y="214881"/>
                  </a:lnTo>
                  <a:lnTo>
                    <a:pt x="450579" y="429761"/>
                  </a:lnTo>
                  <a:lnTo>
                    <a:pt x="450579" y="343809"/>
                  </a:lnTo>
                  <a:lnTo>
                    <a:pt x="0" y="343809"/>
                  </a:lnTo>
                  <a:lnTo>
                    <a:pt x="0" y="85952"/>
                  </a:lnTo>
                  <a:close/>
                </a:path>
              </a:pathLst>
            </a:cu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128880" tIns="85680" bIns="85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upa 24"/>
          <p:cNvGrpSpPr/>
          <p:nvPr/>
        </p:nvGrpSpPr>
        <p:grpSpPr>
          <a:xfrm>
            <a:off x="3389400" y="1530360"/>
            <a:ext cx="2549160" cy="3843360"/>
            <a:chOff x="3389400" y="1530360"/>
            <a:chExt cx="2549160" cy="3843360"/>
          </a:xfrm>
        </p:grpSpPr>
        <p:sp>
          <p:nvSpPr>
            <p:cNvPr id="119" name="Dowolny kształt 18"/>
            <p:cNvSpPr/>
            <p:nvPr/>
          </p:nvSpPr>
          <p:spPr>
            <a:xfrm>
              <a:off x="3389400" y="1530360"/>
              <a:ext cx="1727280" cy="20527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75636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Proces globalizacji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wymiarze społeczno-kulturowy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Dowolny kształt 19"/>
            <p:cNvSpPr/>
            <p:nvPr/>
          </p:nvSpPr>
          <p:spPr>
            <a:xfrm>
              <a:off x="3636720" y="3284640"/>
              <a:ext cx="2230560" cy="20890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5760" rIns="185760" tIns="185760" bIns="18576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wój turystyki, wzmożone migracje, komercjalizacja produktów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Dowolny kształt 20"/>
            <p:cNvSpPr/>
            <p:nvPr/>
          </p:nvSpPr>
          <p:spPr>
            <a:xfrm rot="21600">
              <a:off x="5380200" y="2007720"/>
              <a:ext cx="556920" cy="430200"/>
            </a:xfrm>
            <a:custGeom>
              <a:avLst/>
              <a:gdLst/>
              <a:ahLst/>
              <a:rect l="l" t="t" r="r" b="b"/>
              <a:pathLst>
                <a:path w="557338" h="429761">
                  <a:moveTo>
                    <a:pt x="0" y="85952"/>
                  </a:moveTo>
                  <a:lnTo>
                    <a:pt x="342458" y="85952"/>
                  </a:lnTo>
                  <a:lnTo>
                    <a:pt x="342458" y="0"/>
                  </a:lnTo>
                  <a:lnTo>
                    <a:pt x="557338" y="214881"/>
                  </a:lnTo>
                  <a:lnTo>
                    <a:pt x="342458" y="429761"/>
                  </a:lnTo>
                  <a:lnTo>
                    <a:pt x="342458" y="343809"/>
                  </a:lnTo>
                  <a:lnTo>
                    <a:pt x="0" y="343809"/>
                  </a:lnTo>
                  <a:lnTo>
                    <a:pt x="0" y="85952"/>
                  </a:lnTo>
                  <a:close/>
                </a:path>
              </a:pathLst>
            </a:cu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128880" tIns="85680" bIns="85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upa 25"/>
          <p:cNvGrpSpPr/>
          <p:nvPr/>
        </p:nvGrpSpPr>
        <p:grpSpPr>
          <a:xfrm>
            <a:off x="6168960" y="1415880"/>
            <a:ext cx="2086200" cy="5042160"/>
            <a:chOff x="6168960" y="1415880"/>
            <a:chExt cx="2086200" cy="5042160"/>
          </a:xfrm>
        </p:grpSpPr>
        <p:sp>
          <p:nvSpPr>
            <p:cNvPr id="123" name="Dowolny kształt 21"/>
            <p:cNvSpPr/>
            <p:nvPr/>
          </p:nvSpPr>
          <p:spPr>
            <a:xfrm>
              <a:off x="6168960" y="1415880"/>
              <a:ext cx="1727640" cy="24498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88884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Proces globalizacji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wymiarze polityczny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Dowolny kształt 22"/>
            <p:cNvSpPr/>
            <p:nvPr/>
          </p:nvSpPr>
          <p:spPr>
            <a:xfrm>
              <a:off x="6445080" y="3286080"/>
              <a:ext cx="1810080" cy="31719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4520" rIns="164520" tIns="164520" bIns="16452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wstawanie organizacji międzynarodo-wych, np.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343080" indent="-171720">
                <a:lnSpc>
                  <a:spcPct val="90000"/>
                </a:lnSpc>
                <a:spcAft>
                  <a:spcPts val="300"/>
                </a:spcAft>
                <a:buClr>
                  <a:srgbClr val="0d0d0d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0d0d0d"/>
                  </a:solidFill>
                  <a:latin typeface="Times New Roman CE"/>
                  <a:ea typeface="Times New Roman CE"/>
                </a:rPr>
                <a:t>Bank Światow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343080" indent="-171720">
                <a:lnSpc>
                  <a:spcPct val="90000"/>
                </a:lnSpc>
                <a:spcAft>
                  <a:spcPts val="300"/>
                </a:spcAft>
                <a:buClr>
                  <a:srgbClr val="0d0d0d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0d0d0d"/>
                  </a:solidFill>
                  <a:latin typeface="Times New Roman CE"/>
                  <a:ea typeface="Times New Roman CE"/>
                </a:rPr>
                <a:t>Międzynaro-dowy Fundusz Walutow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343080" indent="-17172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Unia Europej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ole tekstowe 2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utki globalizacj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upa 16"/>
          <p:cNvGrpSpPr/>
          <p:nvPr/>
        </p:nvGrpSpPr>
        <p:grpSpPr>
          <a:xfrm>
            <a:off x="468360" y="1628640"/>
            <a:ext cx="7416720" cy="1721160"/>
            <a:chOff x="468360" y="1628640"/>
            <a:chExt cx="7416720" cy="1721160"/>
          </a:xfrm>
        </p:grpSpPr>
        <p:sp>
          <p:nvSpPr>
            <p:cNvPr id="132" name="Dowolny kształt 9"/>
            <p:cNvSpPr/>
            <p:nvPr/>
          </p:nvSpPr>
          <p:spPr>
            <a:xfrm>
              <a:off x="468360" y="1628640"/>
              <a:ext cx="7416720" cy="17211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1600" rIns="76320" tIns="76320" bIns="7632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zytyw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 algn="just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epływ informacji, postęp naukowo-techniczny, handel międzynarodowy, łatwość komunikowan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rostokąt zaokrąglony 12"/>
            <p:cNvSpPr/>
            <p:nvPr/>
          </p:nvSpPr>
          <p:spPr>
            <a:xfrm>
              <a:off x="639720" y="1800000"/>
              <a:ext cx="1484280" cy="137844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upa 17"/>
          <p:cNvGrpSpPr/>
          <p:nvPr/>
        </p:nvGrpSpPr>
        <p:grpSpPr>
          <a:xfrm>
            <a:off x="468360" y="3522600"/>
            <a:ext cx="7416720" cy="1994040"/>
            <a:chOff x="468360" y="3522600"/>
            <a:chExt cx="7416720" cy="1994040"/>
          </a:xfrm>
        </p:grpSpPr>
        <p:sp>
          <p:nvSpPr>
            <p:cNvPr id="135" name="Dowolny kształt 14"/>
            <p:cNvSpPr/>
            <p:nvPr/>
          </p:nvSpPr>
          <p:spPr>
            <a:xfrm>
              <a:off x="468360" y="3522600"/>
              <a:ext cx="7416720" cy="19940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1600" rIns="76320" tIns="76320" bIns="7632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egatyw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 algn="just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pad państw narodowych, gdyż panuje obecnie przeświadczenie, że procesy globalizacji zagrażają autentyczności i niezależności państw, co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konsekwencji może prowadzić do zaniku lokalnej kultury i tradycj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Prostokąt zaokrąglony 15"/>
            <p:cNvSpPr/>
            <p:nvPr/>
          </p:nvSpPr>
          <p:spPr>
            <a:xfrm>
              <a:off x="639720" y="3693960"/>
              <a:ext cx="1484280" cy="137808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21:59:28Z</dcterms:created>
  <dc:creator>x</dc:creator>
  <dc:description/>
  <dc:language>en-US</dc:language>
  <cp:lastModifiedBy>Gosia</cp:lastModifiedBy>
  <dcterms:modified xsi:type="dcterms:W3CDTF">2013-01-31T17:23:21Z</dcterms:modified>
  <cp:revision>30</cp:revision>
  <dc:subject/>
  <dc:title>Slajd 1</dc:title>
</cp:coreProperties>
</file>